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brake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E86C-285E-493E-823B-6FBDDCC021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ditional Marxism and crime and dev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me is a product of pover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me is brought about by capita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 Marxism and 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is a product of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is brought about by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he one hand it suggests that working-class people are simply innocent people who are picked on by the poli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he other hand it suggests that working class people who engage in crime are really engaged in political action by opposing the capitalis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ne hand it suggests that working-class people are simply innocent people who are picked on by the pol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 it suggests that working class people who engage in crime are really engaged in political action by opposing the capitalis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the basic values and morality of a socie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ciety is dominated and controlled by those at the hel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 is maintained via the socialisation process and thr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the basic values and morality of a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y is dominated and controlled by those at the he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is maintained via the socialisation process and thr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LUES OF FREE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LF-INTER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OF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alists:  law reflects the will of the peo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xists:  law is a reflection of the will of the powerf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economic power guarantees political and social power, the rich can manipulate the rest of us and pass laws that benefit th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‘set the agenda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ts:  law reflects the will of the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xists:  law is a reflection of the will of the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economic power guarantees political and social power, the rich can manipulate the rest of us and pass laws that benefi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‘set the agenda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 Order and Criminal Justice Act (199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Order and Criminal Justice Act (199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et crime’ is more likely to be pursued by police than ‘white collar’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nsified policing and punishment of poorer individuals and commun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or are filtered into the criminal justice system while the rich are filtered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 crime’ is more likely to be pursued by police than ‘white collar’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fied policing and punishment of poorer individuals and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or are filtered into the criminal justice system while the rich are filtere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VIDUAL MOTIVATION FOR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capitalist societies the cultural stress in on competition, not cooperation, and the acquisition of w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re for money can lead those who are blocked off from legitimate chances of gaining wealth to turn to criminal methods (anomi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d is built into the capitalis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MOTIVATION FOR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apitalist societies the cultural stress in on competition, not cooperation, and the acquisition of w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for money can lead those who are blocked off from legitimate chances of gaining wealth to turn to criminal methods (anomi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d is built into the capitalis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ft idea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gnore the consequences for the victims of street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et crime tends to be intra-class, not inter-cl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ide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ore the consequences for the victims of street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 crime tends to be intra-class, not inter-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ms to suggest that the high rate of recorded crime among the working class, youth and blacks is solely the outcome of biased pol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he same time they argue the laws are biased against the working class, forcing them into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all laws are in the interests of the ruling-class on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to suggest that the high rate of recorded crime among the working class, youth and blacks is solely the outcome of biased pol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same time they argue the laws are biased against the working class, forcing them into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laws are in the interests of the ruling-clas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2E5-A813-47AF-8857-3DED210F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911-0407-4215-9CDF-2D8FCD21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B89-B9A5-42CF-B414-4C0D4ABC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90D-24AE-40EF-B9BA-A8417FBD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F80F-8876-4556-8A11-89067A8F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34F2-67D2-44E2-BAAD-0603CC8A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056F-CCE8-4FF8-BA57-9AA08677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7C25-EBCE-4B9A-BDF7-5D864B7F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F9EA-913A-4733-90FA-D600BE68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404A-9395-4C84-9D1E-D1402670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8234-8972-4F69-BBBC-C9BADB6D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975-2B38-4AC7-8A3F-DD406E2A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0CA0-4F81-426B-88A4-B605B544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C7B2-39A1-4D11-AD18-1177F807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2B06-BE77-4C55-993D-F24B1DF4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8B68-7C42-4D01-AA50-9C38CA66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60C6-096E-49FB-94F3-BEBDE242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C2F6-A2B6-4DF2-9FAE-79D087D7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6849-8966-42DA-987E-77126905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2958-7861-43A8-943C-814C021A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716-0F09-499A-8236-A065D56D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1A7-5391-4C4B-8E2E-B1E74DAF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AA5-5EE0-4C6E-A858-9386016A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132E-5D13-4517-A8AE-45BF87D2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122B-C6DE-4890-84EE-E99E115A6A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524A-7618-444E-A9FF-9B02A638A81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ADITIONAL MARXISM AND "/>
              </a:rPr>
              <a:t>Traditional Marxism and crime and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rime is a product of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pover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rime is brought about by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capital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6" descr="crime"/>
          <p:cNvPicPr/>
          <p:nvPr/>
        </p:nvPicPr>
        <p:blipFill>
          <a:blip r:embed="rId1"/>
          <a:stretch/>
        </p:blipFill>
        <p:spPr>
          <a:xfrm>
            <a:off x="685800" y="2003400"/>
            <a:ext cx="38098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On the one hand it suggests that working-class people are simpl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nocent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people who are picked on by the pol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On the other hand it suggests that working class people who engage in crime are really engaged i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litical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ction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by opposing the capitalis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ANIPULATION OF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Manipulation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of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basic valu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and morality of a soc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ciety i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dominated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and controlled by those at the he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ontrol is maintained via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socialisation process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9" descr="hammock2"/>
          <p:cNvPicPr/>
          <p:nvPr/>
        </p:nvPicPr>
        <p:blipFill>
          <a:blip r:embed="rId1"/>
          <a:stretch/>
        </p:blipFill>
        <p:spPr>
          <a:xfrm>
            <a:off x="324000" y="2349360"/>
            <a:ext cx="410184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ANIPULATION OF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VALUES OF FREE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ELF-INTE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1" descr="BigBrotherPoster"/>
          <p:cNvPicPr/>
          <p:nvPr/>
        </p:nvPicPr>
        <p:blipFill>
          <a:blip r:embed="rId1"/>
          <a:stretch/>
        </p:blipFill>
        <p:spPr>
          <a:xfrm>
            <a:off x="900000" y="1628640"/>
            <a:ext cx="320544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CRE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alist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:  law reflects the will of the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arxist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:  law is a reflection of the will of the power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conomic power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guarantee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litical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ocial power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, the rich can manipulate the rest of us and pass laws that benefit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set the agend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6" descr="law creation"/>
          <p:cNvPicPr/>
          <p:nvPr/>
        </p:nvPicPr>
        <p:blipFill>
          <a:blip r:embed="rId1"/>
          <a:stretch/>
        </p:blipFill>
        <p:spPr>
          <a:xfrm>
            <a:off x="851040" y="1641600"/>
            <a:ext cx="34797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CRE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3640" y="1341000"/>
            <a:ext cx="3810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ublic Order and Criminal Justice Act (199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10" descr="drummer"/>
          <p:cNvPicPr/>
          <p:nvPr/>
        </p:nvPicPr>
        <p:blipFill>
          <a:blip r:embed="rId1"/>
          <a:stretch/>
        </p:blipFill>
        <p:spPr>
          <a:xfrm>
            <a:off x="324000" y="2349360"/>
            <a:ext cx="4387680" cy="30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ENFOR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reet crime’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is more likely to be pursued by police tha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white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llar’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cr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tensified policing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unishment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of poorer individuals and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poor a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ltered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to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criminal justice system while the rich a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ltered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6" descr="LAW ENFORCEMENT"/>
          <p:cNvPicPr/>
          <p:nvPr/>
        </p:nvPicPr>
        <p:blipFill>
          <a:blip r:embed="rId1"/>
          <a:stretch/>
        </p:blipFill>
        <p:spPr>
          <a:xfrm>
            <a:off x="979560" y="1641600"/>
            <a:ext cx="322092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NDIVIDUAL MOTIVATION FOR CR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 capitalist societies the cultural stress in o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mpetition,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not cooperation, and th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cquisition of w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Desire for money can lead those who are blocked off fro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egitimate chance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of gaining wealth to turn to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riminal method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(anom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Greed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is built into the capitalis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1" descr="materialism"/>
          <p:cNvPicPr/>
          <p:nvPr/>
        </p:nvPicPr>
        <p:blipFill>
          <a:blip r:embed="rId1"/>
          <a:stretch/>
        </p:blipFill>
        <p:spPr>
          <a:xfrm>
            <a:off x="685800" y="2521080"/>
            <a:ext cx="380988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Left ide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gnore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consequenc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for the victims of street cr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treet crime tends to b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intra-clas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, not inter-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eems to suggest that the high rate of recorded crime among the working class, youth and blacks is solely the outcome of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iased polic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t the same time they argue the laws are biased against the working class,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forcing them into cr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t all laws are in the interests of the ruling-class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1:02:16Z</dcterms:created>
  <dc:creator>aileend</dc:creator>
  <dc:description/>
  <dc:language>en-US</dc:language>
  <cp:lastModifiedBy>RomaK</cp:lastModifiedBy>
  <dcterms:modified xsi:type="dcterms:W3CDTF">2015-09-02T09:55:38Z</dcterms:modified>
  <cp:revision>8</cp:revision>
  <dc:subject/>
  <dc:title>Traditional Marxism and crime and deviance</dc:title>
</cp:coreProperties>
</file>